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325-846B-48D0-8C44-8658B2EA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0AE-6383-4EA3-B0EE-9BF952C9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B86-3CCA-4229-A8A4-E3F65AE9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296-2A68-4E37-BBCD-64C5FF07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1D31-96B0-47FC-B653-08D14B54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E05B-EC08-4A78-8258-E01769FA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5320-3761-4EA0-9A0F-792884C6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808E-7334-4F33-9318-AD22DBCE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F1A6-692C-45CF-9CE8-F3BEEC4A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5128-9696-4780-B6C3-889264F6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3553-7FDC-470E-8FA5-A12121DA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29E-493E-4DD6-80B4-E69A0473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FB75-2A17-4A45-8415-DB91E635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46B5-0253-43BA-9499-87CD44D9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2267-C2A3-411D-905F-85B304D5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8A01-1223-424B-AE12-F3DFDF10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A81A-CF07-4111-B12C-C355D5B9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0AC-0B95-40D1-9033-27209201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956-52CE-4F68-9924-23CDBFD4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18F-88C9-44F9-A19A-42374220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E1E-7BED-47C6-BA52-438DFA4A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35D-A329-40D7-8FAF-3B6CDB5A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912-9E1F-4B84-AC3C-86AAC1B0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9F1-34CD-4687-9B86-129E84F2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6312CD-A25F-4640-BCD9-C766015D1AF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845159-EE05-4645-9912-557273AF5B8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763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TORRE DE LAS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images-8.jpeg"/>
          <p:cNvPicPr/>
          <p:nvPr/>
        </p:nvPicPr>
        <p:blipFill>
          <a:blip r:embed="rId1"/>
          <a:stretch/>
        </p:blipFill>
        <p:spPr>
          <a:xfrm>
            <a:off x="3150000" y="1828800"/>
            <a:ext cx="2519640" cy="3809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IU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images-2.jpeg"/>
          <p:cNvPicPr/>
          <p:nvPr/>
        </p:nvPicPr>
        <p:blipFill>
          <a:blip r:embed="rId1"/>
          <a:srcRect l="-10610" t="0" r="-10610" b="0"/>
          <a:stretch/>
        </p:blipFill>
        <p:spPr>
          <a:xfrm>
            <a:off x="457200" y="1600200"/>
            <a:ext cx="8229240" cy="4525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PARQUE DE ATRAC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image.aspx.jpeg"/>
          <p:cNvPicPr/>
          <p:nvPr/>
        </p:nvPicPr>
        <p:blipFill>
          <a:blip r:embed="rId1"/>
          <a:srcRect l="-29554" t="0" r="-29554" b="0"/>
          <a:stretch/>
        </p:blipFill>
        <p:spPr>
          <a:xfrm>
            <a:off x="457200" y="2438280"/>
            <a:ext cx="6705000" cy="3687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ALAMOD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images-7.jpeg"/>
          <p:cNvPicPr/>
          <p:nvPr/>
        </p:nvPicPr>
        <p:blipFill>
          <a:blip r:embed="rId1"/>
          <a:srcRect l="-2775" t="0" r="-2775" b="0"/>
          <a:stretch/>
        </p:blipFill>
        <p:spPr>
          <a:xfrm>
            <a:off x="457200" y="1600200"/>
            <a:ext cx="8229240" cy="4525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PASEO DE RIO DURANTE LA NAV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images.jpeg"/>
          <p:cNvPicPr/>
          <p:nvPr/>
        </p:nvPicPr>
        <p:blipFill>
          <a:blip r:embed="rId1"/>
          <a:srcRect l="-10406" t="0" r="-10406" b="0"/>
          <a:stretch/>
        </p:blipFill>
        <p:spPr>
          <a:xfrm>
            <a:off x="2133720" y="2438280"/>
            <a:ext cx="4800240" cy="2639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S MISION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images-3.jpeg"/>
          <p:cNvPicPr/>
          <p:nvPr/>
        </p:nvPicPr>
        <p:blipFill>
          <a:blip r:embed="rId1"/>
          <a:srcRect l="-18517" t="0" r="-18517" b="0"/>
          <a:stretch/>
        </p:blipFill>
        <p:spPr>
          <a:xfrm>
            <a:off x="457200" y="1600200"/>
            <a:ext cx="8229240" cy="4525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22</Words>
  <Paragraphs>6</Paragraphs>
  <Company>home comput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31:06Z</dcterms:created>
  <dc:creator>matt  fisher</dc:creator>
  <dc:description/>
  <dc:language>en-US</dc:language>
  <cp:lastModifiedBy>matt  fisher</cp:lastModifiedBy>
  <dcterms:modified xsi:type="dcterms:W3CDTF">2009-03-02T19:40:15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